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84AB-66B2-40F6-BD0C-C66D815EE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198B-23A3-4EF3-AD9B-43B22DFC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1C25-2716-4328-9430-1D0C1EA8B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1589-7EDB-413D-B269-2B165A118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A5A3E-4203-4816-8686-03E2B8A92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BAFB-7CB7-4B22-841A-02F86263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603D-3928-4B4D-889C-A53BD7D8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DA4C-C77B-4880-8807-2C469EDA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0AA3-9366-4981-899F-8B58D899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7B4B-DCF8-4786-B558-996E52BD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2363-E754-4B4E-ACD9-3AB278F3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787B-004D-4A34-B4ED-955A70FE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6F96-CC2A-4D85-AA69-7C1353FD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8C60-82C7-44BB-993B-A2235700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B3C13-4CED-4CA7-B882-CE6CC15B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5EE4-811E-4FF7-86F2-1103D7EA4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6E71-71B3-47FA-B405-36563CC6E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A1981-EE96-4EE4-98C0-A6CB843E3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DA400-185A-4B7D-A796-B130A8EF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F7834-97AB-4620-9987-A6EC5E4E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FF5CD-727A-40F4-BA8D-A8DADCDF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5C639-864F-43F6-A8CF-EF6AAFB6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4D08-AB83-4C49-A4B9-8AAACC3A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FBC1A-E637-4107-A980-0792989D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4DCB4-8FE2-4B56-A5B6-4F92C8DB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CD56C-F714-4ABB-B260-0367DCD4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48D4B-0C4B-494A-996F-9D56878F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DE8A2-2825-4398-8B08-0971DBEB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03C68-7FAA-404B-A912-FB86F6C10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18ACB-5E63-4FB4-B01B-73F68A891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4C4C-1083-42E4-884D-F9A0F254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7702-173A-45E5-A393-2A1142E7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B546-DF74-4053-B223-BFC0238A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4A54-FDCF-41ED-B72E-9E2FC95F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3920-7091-491E-BB78-FACBC2B6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2C10-6E85-4D1C-B40A-ABB69D29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A395-AE01-44FA-A450-B8E78527F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900B-A7CB-49FE-9F76-B197AAD32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F721-4E5E-4325-BD23-AB0D0D074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eb.mit.edu/invent/iow/cade.html" TargetMode="External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914400" y="457200"/>
            <a:ext cx="6095880" cy="58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6600">
                  <a:solidFill>
                    <a:srgbClr val="00ff00"/>
                  </a:solidFill>
                  <a:miter/>
                </a:ln>
                <a:solidFill>
                  <a:srgbClr val="00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atorade</a:t>
            </a:r>
            <a:endParaRPr b="0" lang="en-US" sz="1800" spc="1" strike="noStrike">
              <a:ln w="66600">
                <a:solidFill>
                  <a:srgbClr val="00ff00"/>
                </a:solidFill>
                <a:miter/>
              </a:ln>
              <a:solidFill>
                <a:srgbClr val="00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3341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86600" y="5227560"/>
            <a:ext cx="20541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ayle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b. 22 20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Cade"/>
          <p:cNvPicPr/>
          <p:nvPr/>
        </p:nvPicPr>
        <p:blipFill>
          <a:blip r:embed="rId1"/>
          <a:stretch/>
        </p:blipFill>
        <p:spPr>
          <a:xfrm>
            <a:off x="457200" y="609480"/>
            <a:ext cx="8686800" cy="2679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743200" y="4267080"/>
            <a:ext cx="37339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melson MIT, C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/28/20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web.mit.edu/invent/iow/cade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vention:Gatora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gradFill rotWithShape="0">
            <a:gsLst>
              <a:gs pos="0">
                <a:srgbClr val="6600cc"/>
              </a:gs>
              <a:gs pos="100000">
                <a:srgbClr val="333300"/>
              </a:gs>
            </a:gsLst>
            <a:lin ang="5400000"/>
          </a:gradFill>
          <a:ln w="9360">
            <a:solidFill>
              <a:srgbClr val="3333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oach asked one of Robert Cades associates for help to improve the football players with a new drin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vention got its name from the Florida team Gat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wasn’t hydrating the football players enough for them to play w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atorade was invented in 196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de finally made the winning formula it was made out of water, sugar, sodium, potassium, phosphate, and lemon ju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100000">
                <a:srgbClr val="3333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 Black"/>
              </a:rPr>
              <a:t>Inventor: Robert Ca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100000">
                <a:srgbClr val="333300"/>
              </a:gs>
            </a:gsLst>
            <a:lin ang="5400000"/>
          </a:gradFill>
          <a:ln w="9360">
            <a:solidFill>
              <a:srgbClr val="3333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Arial"/>
              </a:rPr>
              <a:t>Robert Cade was born in 1927 in Flori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Cade was trained at the university o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exas Medical school in Dalla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He worked to become a internist and nephrologi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He also went to University of Florida als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e wanted to be a medical researcher also.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8:28:21Z</dcterms:created>
  <dc:creator>install</dc:creator>
  <dc:description/>
  <dc:language>en-US</dc:language>
  <cp:lastModifiedBy>install</cp:lastModifiedBy>
  <dcterms:modified xsi:type="dcterms:W3CDTF">2011-03-11T18:37:24Z</dcterms:modified>
  <cp:revision>9</cp:revision>
  <dc:subject/>
  <dc:title>Slide 1</dc:title>
</cp:coreProperties>
</file>